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02207-4F1E-4763-A3B2-A593AD0A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8E4B8-E535-4436-9115-9F0675B27F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RTG u stomatologiji je značajno dijagnostičko sredstvo u otkrivanju karijesa aproksimalnih površina svih denticija, u evaluaciji povreda zuba i potpornog aparata, otkrivanju poremećaja razvoja zubai ispitivanj u patoloških stan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tgen snimak je pomoćna dijagnostička metoda; dakle – dok ne postanemo vidoviti :), moramo da vidimo “šta ima unutra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CD4F5-110D-47C9-82EB-ECE33CDAAA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42B19-8F71-4257-83C2-55DCD1A5B5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9B788-4826-418B-9646-D4B944544A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D8955-96AC-4EB4-B658-0BE7A032EC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9B194-C63F-4B81-ABC4-EC9147354E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58B1DC-0CF0-4EE9-84BD-B58792209C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E6573-D070-4503-AB0E-E7CCAFC254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EE999D-E0EC-4482-95D6-066F386895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D179E2-FE17-4580-BE66-7702E4A0A0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31FD7-3CC5-4710-A652-2D506EAB94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F78A3-03B0-4644-8F39-E44B596292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5F25E-C84C-46EA-B82A-E7910DAFF3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A2478B-5565-425A-AA94-ACAA02EA28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38891-A0EB-4E0A-907C-1DC6147E43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645-B1C4-4A7E-B195-32B95881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151-3797-47AD-886E-71D9E7E4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A7F-348C-40C6-8339-00C03548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99F-A44D-47FC-A46E-9E72E5BB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F6BD-5A60-443B-B828-66F670B5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95C-0CDE-4D7E-98A1-AB223D39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656-DF1A-449D-92BB-44E46C9E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10C-4040-40EB-9E9B-FC5BF581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11F-CE8A-4D6B-8A59-A852FCBB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5F0-6FB9-467F-B6F0-39A3EA6E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6A5-47B0-4A4C-B770-D994FC6A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548-EA3A-46BA-884A-ABD9CBC7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3657B-E1A5-4715-952B-E8D8E345BE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8f8f8"/>
                </a:solidFill>
                <a:latin typeface="Trebuchet MS"/>
              </a:rPr>
              <a:t>DETEKCIJA I</a:t>
            </a:r>
            <a:br>
              <a:rPr sz="4800"/>
            </a:br>
            <a:r>
              <a:rPr b="1" lang="sr-Latn-CS" sz="4800" spc="-1" strike="noStrike">
                <a:solidFill>
                  <a:srgbClr val="f8f8f8"/>
                </a:solidFill>
                <a:latin typeface="Trebuchet MS"/>
              </a:rPr>
              <a:t>TERAPIJA KARIJESA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6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196640" y="210996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Mladi stalni zubi su tek iznikli zubi kod kojih nije došlo do fiziološkog apikalnog zatvaranja (apeksogeneza). Apegskogeneza traje 2 do 3 godine nakog nicanja zuba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Razvojni zubi su od izuzetnog značaja za razvoj periodoncijuma i alveolarne kosti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Imaju veći potencijal za oporavak pulpnog tkiva i nastavak apeksogenez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MLADI STALNI ZUB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INTERCEPTIVNI POSTUPC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196640" y="210996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Fluorizaci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Zalivanje fisura (terapijsko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imena GJ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reparati kalcijum fosfat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CPP-ACP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96640" y="210996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Kazein fosfopetptid-amorfni kazeinfosfat nanokompleks dobijen iz kazeina kravljeg mleka, kalcijuma i fosfata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CPP su mali peptidi dobijeni parcijalnom enzimatskom razgradnjom kazeina, koji stabilizuju ACP kompleks i sprečavaju njegovu precipitaciju u usnoj šupljini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34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500" spc="-1" strike="noStrike">
                <a:solidFill>
                  <a:srgbClr val="f8f8f8"/>
                </a:solidFill>
                <a:latin typeface="Trebuchet MS"/>
              </a:rPr>
              <a:t>PREVENTIVNO PLOMBIRANJ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196640" y="1890360"/>
            <a:ext cx="1028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24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3200" spc="-1" strike="noStrike">
                <a:solidFill>
                  <a:srgbClr val="f9a12a"/>
                </a:solidFill>
                <a:latin typeface="Trebuchet MS"/>
              </a:rPr>
              <a:t>Tehnika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Primena analgezije prema potreb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Uklanjanje karijesa bez zakošavanja ivica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agrizanje kiselin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Restauracija kompozitom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Nanošenje zalivača preko restauracije i okolne intaktne gleđi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Kontrola sondom i artikulacionim papiro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Lokaln</a:t>
            </a:r>
            <a:r>
              <a:rPr b="1" lang="sr-Latn-RS" sz="1600" spc="-1" strike="noStrike">
                <a:solidFill>
                  <a:srgbClr val="ffffff"/>
                </a:solidFill>
                <a:latin typeface="Trebuchet MS"/>
              </a:rPr>
              <a:t>a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 aplikaci</a:t>
            </a:r>
            <a:r>
              <a:rPr b="1" lang="sr-Latn-CS" sz="1600" spc="-1" strike="noStrike">
                <a:solidFill>
                  <a:srgbClr val="ffffff"/>
                </a:solidFill>
                <a:latin typeface="Trebuchet MS"/>
              </a:rPr>
              <a:t>j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a F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1076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500" spc="-1" strike="noStrike">
                <a:solidFill>
                  <a:srgbClr val="f8f8f8"/>
                </a:solidFill>
                <a:latin typeface="Trebuchet MS"/>
              </a:rPr>
              <a:t>MIR NA OKLUZALNOJ POVRŠINI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96640" y="1814400"/>
            <a:ext cx="1066788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8f8f8"/>
                </a:solidFill>
                <a:latin typeface="Trebuchet MS"/>
              </a:rPr>
              <a:t>TIP A</a:t>
            </a:r>
            <a:r>
              <a:rPr b="1" lang="sr-Latn-CS" sz="2300" spc="-1" strike="noStrike">
                <a:solidFill>
                  <a:srgbClr val="f8f8f8"/>
                </a:solidFill>
                <a:latin typeface="Trebuchet MS"/>
              </a:rPr>
              <a:t> u gleđ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8f8f8"/>
                </a:solidFill>
                <a:latin typeface="Trebuchet MS"/>
              </a:rPr>
              <a:t>TIP B</a:t>
            </a:r>
            <a:r>
              <a:rPr b="1" lang="sr-Latn-CS" sz="2300" spc="-1" strike="noStrike">
                <a:solidFill>
                  <a:srgbClr val="f8f8f8"/>
                </a:solidFill>
                <a:latin typeface="Trebuchet MS"/>
              </a:rPr>
              <a:t> kod početne, male i ograničene lezije u dentinu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8f8f8"/>
                </a:solidFill>
                <a:latin typeface="Trebuchet MS"/>
              </a:rPr>
              <a:t>TIP C</a:t>
            </a:r>
            <a:r>
              <a:rPr b="1" lang="sr-Latn-CS" sz="2300" spc="-1" strike="noStrike">
                <a:solidFill>
                  <a:srgbClr val="f8f8f8"/>
                </a:solidFill>
                <a:latin typeface="Trebuchet MS"/>
              </a:rPr>
              <a:t> lezija u dentinu koja zahteva podlogu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54120" y="557280"/>
            <a:ext cx="9144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500" spc="-1" strike="noStrike">
                <a:solidFill>
                  <a:srgbClr val="f8f8f8"/>
                </a:solidFill>
                <a:latin typeface="Trebuchet MS"/>
              </a:rPr>
              <a:t>MIR APROKSIMALNIH POVRŠINI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97000" y="1890360"/>
            <a:ext cx="100965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Kada ja karijesna lezija na više od 2,5mm udaljenosti od marginalnog brida, pristupa se iz pravca okluzalne površine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Ukoliko je aproksimalna gleđ očuvana onda se radi o parcijalnoj tunel preparaciji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Direktan pristup se radi u slučaju da istovremeno na susednom zubu nalazi karijesna lezija  koju uključujemo.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8f8f8"/>
                </a:solidFill>
                <a:latin typeface="Trebuchet MS"/>
              </a:rPr>
              <a:t>ALTERNATIVNE METODE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96640" y="2025360"/>
            <a:ext cx="1028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ART – Atraumatski Restaurativni Tretma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Hemijska sredstva za uklanjanje karijesa - Carisolv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Mikroabrazija gleđi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300" spc="-1" strike="noStrike">
                <a:solidFill>
                  <a:srgbClr val="f9a12a"/>
                </a:solidFill>
                <a:latin typeface="Trebuchet MS"/>
              </a:rPr>
              <a:t>Sredstva za infiltraciju početne karijesne lezije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0800" y="632880"/>
            <a:ext cx="10287000" cy="11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800" spc="-1" strike="noStrike">
                <a:solidFill>
                  <a:srgbClr val="f8f8f8"/>
                </a:solidFill>
                <a:latin typeface="Trebuchet MS"/>
              </a:rPr>
              <a:t>SAVREMENE METODE</a:t>
            </a:r>
            <a:endParaRPr b="0" lang="en-US" sz="3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97000" y="2088720"/>
            <a:ext cx="1038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VAZDUŠNA ABRAZIJ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1037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100" spc="-1" strike="noStrike">
                <a:solidFill>
                  <a:srgbClr val="f8f8f8"/>
                </a:solidFill>
                <a:latin typeface="Trebuchet MS"/>
              </a:rPr>
              <a:t>PRIMENA LASER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8f8f8"/>
                </a:solidFill>
                <a:latin typeface="Trebuchet MS"/>
              </a:rPr>
              <a:t>KARIJES RANOG</a:t>
            </a:r>
            <a:br>
              <a:rPr sz="4800"/>
            </a:br>
            <a:r>
              <a:rPr b="1" lang="sr-Latn-CS" sz="4800" spc="-1" strike="noStrike">
                <a:solidFill>
                  <a:srgbClr val="f8f8f8"/>
                </a:solidFill>
                <a:latin typeface="Trebuchet MS"/>
              </a:rPr>
              <a:t>DETINJSTVA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6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4500" spc="-1" strike="noStrike">
                <a:solidFill>
                  <a:srgbClr val="f8f8f8"/>
                </a:solidFill>
                <a:latin typeface="Trebuchet MS"/>
              </a:rPr>
              <a:t>KRD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96640" y="1890360"/>
            <a:ext cx="1028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21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Karijes ranog detinjstva - KRD </a:t>
            </a:r>
            <a:r>
              <a:rPr b="1" i="1" lang="sr-Latn-RS" sz="2800" spc="-1" strike="noStrike">
                <a:solidFill>
                  <a:srgbClr val="f9a12a"/>
                </a:solidFill>
                <a:latin typeface="Trebuchet MS"/>
              </a:rPr>
              <a:t>(Early Childhood Caries - ECC)</a:t>
            </a:r>
            <a:r>
              <a:rPr b="1" lang="sr-Latn-RS" sz="2800" spc="-1" strike="noStrike">
                <a:solidFill>
                  <a:srgbClr val="f9a12a"/>
                </a:solidFill>
                <a:latin typeface="Trebuchet MS"/>
              </a:rPr>
              <a:t> je pojam koji se koristi da bi verodostojno opisao pojavu svih karioznih promena, u primarnoj, mlečnoj denticiji, kada je karijes prisutan maker i na jednom zubu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96640" y="2021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Multifaktorsko, dinamično oboljenje oisredovano putem oralnog biofilma izazvano učestalim unosom šećera u ishrani, koje remeti balans u procesima demineralizacije i remineralizacije u usnoj duplji što dovodi do simptoma na tvrdim zubnim tkivima - </a:t>
            </a: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poremećaj homeostaz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SAVREMENO SHVATANJE KARIJES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264000" y="2021040"/>
            <a:ext cx="52210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otpuno uklanjanje navike koja je dovela do karije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Pimena fluorida z rigorozne mere oralne higije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Ispuni GJC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Ekstrakcije – gornjih centralnih sekutića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45e44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45e44"/>
                </a:solidFill>
                <a:latin typeface="Trebuchet MS"/>
              </a:rPr>
              <a:t>Kod veoma male dece neophodan rad u opštoj anesteziji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8f8f8"/>
                </a:solidFill>
                <a:latin typeface="Trebuchet MS"/>
              </a:rPr>
              <a:t>PRINCIPI LEČEN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196640" y="2021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Uočavaju se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87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000" spc="-1" strike="noStrike">
                <a:solidFill>
                  <a:srgbClr val="f8f8f8"/>
                </a:solidFill>
                <a:latin typeface="Trebuchet MS"/>
              </a:rPr>
              <a:t>Pigmentacij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87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000" spc="-1" strike="noStrike">
                <a:solidFill>
                  <a:srgbClr val="f8f8f8"/>
                </a:solidFill>
                <a:latin typeface="Trebuchet MS"/>
              </a:rPr>
              <a:t>Gubitak sjajnog izgled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874"/>
              </a:spcBef>
              <a:buClr>
                <a:srgbClr val="f8f8f8"/>
              </a:buClr>
              <a:buFont typeface="Trebuchet MS"/>
              <a:buChar char="−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000" spc="-1" strike="noStrike">
                <a:solidFill>
                  <a:srgbClr val="f8f8f8"/>
                </a:solidFill>
                <a:latin typeface="Trebuchet MS"/>
              </a:rPr>
              <a:t>Pojava neprozirnosti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VIZUELNO-TAKTILNI METOD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96640" y="2021040"/>
            <a:ext cx="43052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tkrivanje karijesa aproksimalnih površin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Evaluacija povrede zuba i potpornog tki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tkrivanje poremećaja razvoja zub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Ispitivanje patoloških stanj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RENDGENOGRAF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8f8f8"/>
                </a:solidFill>
                <a:latin typeface="Trebuchet MS"/>
              </a:rPr>
              <a:t>PROSVETLJAVANJE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97000" y="2119320"/>
            <a:ext cx="415296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9960" indent="-21996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Koristi fenomen poroznosti kod demineralizacije gleđ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9960" indent="-21996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Nakon dobrog sušenja kada vazduh zameni vodu u prostorima između kristala, gleđ održava svoju translucenciju (providnost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9960" indent="-21996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000" spc="-1" strike="noStrike">
                <a:solidFill>
                  <a:srgbClr val="f9a12a"/>
                </a:solidFill>
                <a:latin typeface="Trebuchet MS"/>
              </a:rPr>
              <a:t>Za aproksimalne površine zub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9960" indent="-21996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9960" indent="-21996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19960" indent="-219960">
              <a:lnSpc>
                <a:spcPct val="8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1197000" y="2058480"/>
            <a:ext cx="582912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Kod početne lezije formiraju se porozne zone koje ispunjavaju vodom i sa jonima iz pljuvačke čine osnovne puteve električnog provođenj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ELEKTRONSKI DETEKTOR KARIJES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196640" y="210996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Emisija svetlosti koja kada dođe u kontakt sa promenom izaziva fluorescentnu svetlost druge talasne dužine koji aparat registruje na dipleju kao brojčanu vrednost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8f8f8"/>
                </a:solidFill>
                <a:latin typeface="Trebuchet MS"/>
              </a:rPr>
              <a:t>LASER FLUOROSCEN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196640" y="205848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Vazdušna abrazij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Uzimanje otiska aproksimalnih površin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Aplikacija ortodonskih gumica interdentalno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Termo i elektrotest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OSTALE METOD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73980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8f8f8"/>
                </a:solidFill>
                <a:latin typeface="Trebuchet MS"/>
              </a:rPr>
              <a:t>MINIMALNO INVAZIVNA KARIOLOGIJA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34000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DEČJ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6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6:41:53Z</dcterms:modified>
  <cp:revision>490</cp:revision>
  <dc:subject/>
  <dc:title>RTG U DEČJOJ STOMATOLOGIJI</dc:title>
</cp:coreProperties>
</file>